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F2C8-5850-4EE5-97B1-E2BC678B4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572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ED0B-27E6-4BD1-91FD-FC8C16AE6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B272-1517-46DD-8B83-5569983B2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161C-A48E-436F-A0C2-DD2A6BAE5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7DE47-957D-440C-9876-2A4C982FE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3032B-A951-43EE-9CEA-A9A62107E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CA62B-48DE-41A8-A80E-41AF83222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5A5BB-0B75-485B-9E4C-2DD5EF29C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E66B4-7A9A-4537-BCC9-1890776E5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4A3C7-4677-4D10-BFCF-04AC4B48F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8E4E2-D066-4D22-951B-073DB6354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AFD3-4183-4286-AEF7-A6FB97FA6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9A63F-90A8-44E9-B7D5-952CB91FF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F8965-0E73-44B9-B414-9352CD96C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0572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96A7D-ABE9-4615-9EDA-85FF769C1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99326-582D-4DDA-818A-85674CFC4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52C2E-C4B5-4A5F-9746-D981DDCB2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81E0-1F88-4825-8695-643E874CA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F267-2A2E-4879-987F-6FCE144D4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79E0-3E47-4471-91DD-852B6BE7D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5F4D-98DD-49CA-8D5E-085FB4FE6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85C6-D1A6-416E-9C62-7B852F773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D2CE-788B-4183-BC74-609447E5B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BFDF-6E3A-4847-BDC8-2B5DB0C9F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46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64376-97DF-4A26-BA33-9E6268B371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46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71FF0-FF4A-4016-B36C-E3ADC0C0EC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467"/>
                </a:solidFill>
                <a:latin typeface="Arial"/>
              </a:rPr>
              <a:t>Structuralism &amp; Semiotics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5800" y="3200040"/>
            <a:ext cx="7772400" cy="12193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Henderson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467"/>
                </a:solidFill>
                <a:latin typeface="Arial"/>
              </a:rPr>
              <a:t>Barthes</a:t>
            </a:r>
            <a:r>
              <a:rPr b="0" lang="ja-JP" sz="4400" spc="-1" strike="noStrike">
                <a:solidFill>
                  <a:srgbClr val="ffd467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ffd467"/>
                </a:solidFill>
                <a:latin typeface="Arial"/>
              </a:rPr>
              <a:t> five </a:t>
            </a:r>
            <a:r>
              <a:rPr b="0" lang="ja-JP" sz="4400" spc="-1" strike="noStrike">
                <a:solidFill>
                  <a:srgbClr val="ffd467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d467"/>
                </a:solidFill>
                <a:latin typeface="Arial"/>
              </a:rPr>
              <a:t>codes</a:t>
            </a:r>
            <a:r>
              <a:rPr b="0" lang="ja-JP" sz="4400" spc="-1" strike="noStrike">
                <a:solidFill>
                  <a:srgbClr val="ffd467"/>
                </a:solidFill>
                <a:latin typeface="Arial"/>
              </a:rPr>
              <a:t>”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Barthes identifies five codes which he says provide the underlying narrative structures for all literature.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When reading, attempt to place a work in the system of codes.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467"/>
                </a:solidFill>
                <a:latin typeface="Arial"/>
              </a:rPr>
              <a:t>The codes are: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6483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Proairetic - provides indications of actions; </a:t>
            </a:r>
            <a:r>
              <a:rPr b="1" i="1" lang="ja-JP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reality</a:t>
            </a:r>
            <a:r>
              <a:rPr b="1" i="1" lang="ja-JP" sz="36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.  Ex: The ship sailed at noon.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Hermeneutic - poses questions or enigmas that provide narrative suspense and involve the reader.  Ex: if the narration indicates a knock on the door, the reader asks herself, </a:t>
            </a:r>
            <a:r>
              <a:rPr b="1" i="1" lang="ja-JP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Who is it?</a:t>
            </a:r>
            <a:r>
              <a:rPr b="1" i="1" lang="ja-JP" sz="36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467"/>
                </a:solidFill>
                <a:latin typeface="Arial"/>
              </a:rPr>
              <a:t>Codes continued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3. Cultural - contains references beyond the text which are considered common knowledge (allusions, metonymy).  Ex: if a character is described as driving a hybrid car, there are certain cultural assumptions attached to that character.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467"/>
                </a:solidFill>
                <a:latin typeface="Arial"/>
              </a:rPr>
              <a:t>Codes continued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4. Semic - linked to a theme on the character level, when a series of signs and ideas surround an individual.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5. Symbolic - linked to theme on a larger level.  Consists of contrasts and pairings related to the most basic binary polarities - man/woman, good/evil, lost/recovered, etc. **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467"/>
                </a:solidFill>
                <a:latin typeface="Arial"/>
              </a:rPr>
              <a:t>Frye</a:t>
            </a:r>
            <a:r>
              <a:rPr b="0" lang="ja-JP" sz="4400" spc="-1" strike="noStrike">
                <a:solidFill>
                  <a:srgbClr val="ffd467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ffd467"/>
                </a:solidFill>
                <a:latin typeface="Arial"/>
              </a:rPr>
              <a:t>s fictional modes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MYTH - the hero is superior in kind to other men and the environment of other men; generally a story about a god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ROMANCE - the hero is superior in degree to other men; ordinary laws of nature are suspended; often has supernatural powers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467"/>
                </a:solidFill>
                <a:latin typeface="Arial"/>
              </a:rPr>
              <a:t>Fictional modes continued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HIGH MIMETIC - superior to men, but not to the environment; hero is a leader.  (Often found in epic and tragedy.)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LOW MIMETIC - Jane Austen</a:t>
            </a:r>
            <a:r>
              <a:rPr b="1" i="1" lang="ja-JP" sz="3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s bread and butter.  Everyday hero; appeals to our common sense of humanity.  Romantic comedies.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467"/>
                </a:solidFill>
                <a:latin typeface="Arial"/>
              </a:rPr>
              <a:t>Fictional modes continued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IRONIC - hero is inferior to other men or his environment.  Ben Stiller</a:t>
            </a:r>
            <a:r>
              <a:rPr b="1" i="1" lang="ja-JP" sz="3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s lifeline.  Includes satire.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Apply these modes to tragedies and comedies.  Thus, you can have a high mimetic tragedy (Macbeth) or a low mimetic comedy (Pride &amp; Prejudice).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467"/>
                </a:solidFill>
                <a:latin typeface="Arial"/>
              </a:rPr>
              <a:t>Archetypes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Definition: a symbol, usually an image, which recurs often enough in literature to be recognizable as an element of one</a:t>
            </a:r>
            <a:r>
              <a:rPr b="1" i="1" lang="ja-JP" sz="3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s literary experience as a whole (individually and collectively)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467"/>
                </a:solidFill>
                <a:latin typeface="Arial"/>
              </a:rPr>
              <a:t>Apocalyptic vs. Demonic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Apocalyptic: archetypes that reflect ultimate human desire (roughly equated with our sense of heaven)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Demonic: archetypes that reflect everything that society rejects; a total inversion of the apocalyptic (roughly equated with our sense of hell)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467"/>
                </a:solidFill>
                <a:latin typeface="Arial"/>
              </a:rPr>
              <a:t>Archetypal forms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Divine world = society of gods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Human world = society of men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Animal world = domesticated flocks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Vegetable world = garden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Mineral world = cities, construction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467"/>
                </a:solidFill>
                <a:latin typeface="Arial"/>
              </a:rPr>
              <a:t>Dudes to know: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47246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Ferdinand deSaussure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Claude Levi-Strauss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Roland Barthes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Jacques Lacan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Michel Foucault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Northrop Frye**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467"/>
                </a:solidFill>
                <a:latin typeface="Arial"/>
              </a:rPr>
              <a:t>Apocalyptic imagery: divine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One God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All ultimate unity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Idealized world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Magic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Emphasis on heavenly bodies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** Mythical AND analogical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467"/>
                </a:solidFill>
                <a:latin typeface="Arial"/>
              </a:rPr>
              <a:t>Apocalyptic imagery: human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One man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Christ (though he operates in a divine context as well)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3 types of fulfillment: individual, social, and sexual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Philosopher-kings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Sexual symbolism - two bodies become one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Chaste people, like Sir Galahad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467"/>
                </a:solidFill>
                <a:latin typeface="Arial"/>
              </a:rPr>
              <a:t>Apocalyptic imagery: animal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One flock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King as shepherd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Birds (esp. doves)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Horses and hounds (romance)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Unicorn (emblem of virgins)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Ass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467"/>
                </a:solidFill>
                <a:latin typeface="Arial"/>
              </a:rPr>
              <a:t>Apocalyptic imagery: veggie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One Tree (of Life)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Fruit and leaves on a tree = bread and wine (communion)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Flowers (esp. flowers)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Enchanted forests of Shakespeare</a:t>
            </a:r>
            <a:r>
              <a:rPr b="1" i="1" lang="ja-JP" sz="3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s comedies, Robin Hood, etc.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467"/>
                </a:solidFill>
                <a:latin typeface="Arial"/>
              </a:rPr>
              <a:t>Apocalyptic imagery: mineral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One Building, Temple, or Stone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City = </a:t>
            </a:r>
            <a:r>
              <a:rPr b="1" i="1" lang="ja-JP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house of many mansions</a:t>
            </a:r>
            <a:r>
              <a:rPr b="1" i="1" lang="ja-JP" sz="36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Geometrical and architectural images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Stairways, ladders, even Rapunzel</a:t>
            </a:r>
            <a:r>
              <a:rPr b="1" i="1" lang="ja-JP" sz="3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s hair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467"/>
                </a:solidFill>
                <a:latin typeface="Arial"/>
              </a:rPr>
              <a:t>Demonic imagery: divine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Perversions of apocalyptic imagery are called MODULATIONS.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Vast, menacing powers of nature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Fate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Sense of human remoteness and futility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467"/>
                </a:solidFill>
                <a:latin typeface="Arial"/>
              </a:rPr>
              <a:t>Demonic imagery: human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Ego runs rampant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Perversion of the 3 areas of fulfillment in apocalyptic imagery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Loyalty to a tyrant diminishes the individual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Sacrificial victim, scapegoat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Mob violence blends the first 2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467"/>
                </a:solidFill>
                <a:latin typeface="Arial"/>
              </a:rPr>
              <a:t>Demonic imagery: animal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Monsters, beasts of prey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Wolf, traditional enemy of sheep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Tiger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Vulture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Serpent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Dragon (soooo contextual)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467"/>
                </a:solidFill>
                <a:latin typeface="Arial"/>
              </a:rPr>
              <a:t>Demonic imagery: veggie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Sinister forest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Heath (recall Macbeth)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Waste land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Scaffold (as a modulation of the tree of life)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467"/>
                </a:solidFill>
                <a:latin typeface="Arial"/>
              </a:rPr>
              <a:t>Demonic imagery: mineral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Waste land (again)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Cities of sin and destruction (Babel, Reno, etc.)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Images of perverted work (instruments of torture or war)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Sinister spirals (maelstrom)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467"/>
                </a:solidFill>
                <a:latin typeface="Arial"/>
              </a:rPr>
              <a:t>Context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As a literary theory, developed in the 1950s and 1960s, adopted from theories other areas such as sociology, psychoanalysis, anthropology, etc.  **All interrelated!**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Reactionary criticism, attempts to place literature into a system and assign value judgments to works.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467"/>
                </a:solidFill>
                <a:latin typeface="Arial"/>
              </a:rPr>
              <a:t>Archetypes and Cycles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724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Images fall into cyclical movements.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Divine = death/rebirth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Fire-world = heavenly bodies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Human = dreaming/waking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Animal = life/death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Veggie = natural cycles (seasons)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Mineral = golden ages, etc.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Water cycles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467"/>
                </a:solidFill>
                <a:latin typeface="Arial"/>
              </a:rPr>
              <a:t>Cycles and Genres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4 Mythoi: generic plots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These 4 mythoi can be seen as aspects of a single unifying myth, which corresponds this way…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Agon - conflict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Pathos - catastrophe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Sparagmos - anarchy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Anagnorisis - recognition/triumph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467"/>
                </a:solidFill>
                <a:latin typeface="Arial"/>
              </a:rPr>
              <a:t>Mythos of Spring: Comedy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85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ffffff"/>
                </a:solidFill>
                <a:latin typeface="Times New Roman"/>
              </a:rPr>
              <a:t>Young man wants young woman.</a:t>
            </a: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85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ffffff"/>
                </a:solidFill>
                <a:latin typeface="Times New Roman"/>
              </a:rPr>
              <a:t>Resisted by some opposition.</a:t>
            </a: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85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ffffff"/>
                </a:solidFill>
                <a:latin typeface="Times New Roman"/>
              </a:rPr>
              <a:t>Twist enables the hero to have his will.</a:t>
            </a: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85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ffffff"/>
                </a:solidFill>
                <a:latin typeface="Times New Roman"/>
              </a:rPr>
              <a:t>Appearance/adoption of a new society or social order.</a:t>
            </a: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85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ffffff"/>
                </a:solidFill>
                <a:latin typeface="Times New Roman"/>
              </a:rPr>
              <a:t>Often paternal figures provide opposition.</a:t>
            </a: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85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ffffff"/>
                </a:solidFill>
                <a:latin typeface="Times New Roman"/>
              </a:rPr>
              <a:t>Plot line is generally CONSERVATIVE (society returns to what is “right”)</a:t>
            </a: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467"/>
                </a:solidFill>
                <a:latin typeface="Arial"/>
              </a:rPr>
              <a:t>Mythos of Summer: Romance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85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ffffff"/>
                </a:solidFill>
                <a:latin typeface="Times New Roman"/>
              </a:rPr>
              <a:t>Quest/adventure</a:t>
            </a: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85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ffffff"/>
                </a:solidFill>
                <a:latin typeface="Times New Roman"/>
              </a:rPr>
              <a:t>Perilous journey, crucial struggle, exaltation of the hero.  (Notice how the 3-part structure parallels that of comedy.)</a:t>
            </a: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85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ffffff"/>
                </a:solidFill>
                <a:latin typeface="Times New Roman"/>
              </a:rPr>
              <a:t>Archetype: dragon-killing, leviathan</a:t>
            </a: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85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ffffff"/>
                </a:solidFill>
                <a:latin typeface="Times New Roman"/>
              </a:rPr>
              <a:t>Can be applied to Exodus</a:t>
            </a: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85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ffffff"/>
                </a:solidFill>
                <a:latin typeface="Times New Roman"/>
              </a:rPr>
              <a:t>Connected to fertility rites</a:t>
            </a: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85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ffffff"/>
                </a:solidFill>
                <a:latin typeface="Times New Roman"/>
              </a:rPr>
              <a:t>Generally ANARCHISTIC (no societal resolution; create one’s own society)</a:t>
            </a: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467"/>
                </a:solidFill>
                <a:latin typeface="Arial"/>
              </a:rPr>
              <a:t>Mythos of Autumn: Tragedy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572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85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ffffff"/>
                </a:solidFill>
                <a:latin typeface="Times New Roman"/>
              </a:rPr>
              <a:t>Tragedy actually moves cyclically</a:t>
            </a: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85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ffffff"/>
                </a:solidFill>
                <a:latin typeface="Times New Roman"/>
              </a:rPr>
              <a:t>Hero is on top of the wheel of fortune; when he declines, his subordinates do his living for him.  In some tragedies (Adam), the hero creates new life after the fall.</a:t>
            </a: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85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ffffff"/>
                </a:solidFill>
                <a:latin typeface="Times New Roman"/>
              </a:rPr>
              <a:t>Sense of natural law and justice</a:t>
            </a: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85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ffffff"/>
                </a:solidFill>
                <a:latin typeface="Times New Roman"/>
              </a:rPr>
              <a:t>Binary structure instead of tertiary</a:t>
            </a: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85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ffffff"/>
                </a:solidFill>
                <a:latin typeface="Times New Roman"/>
              </a:rPr>
              <a:t>Generally RADICAL (changes in society must be made, and at great cost)</a:t>
            </a: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467"/>
                </a:solidFill>
                <a:latin typeface="Arial"/>
              </a:rPr>
              <a:t>Mythos of Winter: Irony/Satire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85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ffffff"/>
                </a:solidFill>
                <a:latin typeface="Times New Roman"/>
              </a:rPr>
              <a:t>Remember that irony is </a:t>
            </a:r>
            <a:r>
              <a:rPr b="1" i="1" lang="ja-JP" sz="3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3400" spc="-1" strike="noStrike">
                <a:solidFill>
                  <a:srgbClr val="ffffff"/>
                </a:solidFill>
                <a:latin typeface="Times New Roman"/>
              </a:rPr>
              <a:t>realistic</a:t>
            </a:r>
            <a:r>
              <a:rPr b="1" i="1" lang="ja-JP" sz="34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i="1" lang="en-US" sz="3400" spc="-1" strike="noStrike">
                <a:solidFill>
                  <a:srgbClr val="ffffff"/>
                </a:solidFill>
                <a:latin typeface="Times New Roman"/>
              </a:rPr>
              <a:t>; we are supposed to look down on characters and events from a higher position.</a:t>
            </a: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85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ffffff"/>
                </a:solidFill>
                <a:latin typeface="Times New Roman"/>
              </a:rPr>
              <a:t>Satire is militant irony: wit founded on a sense of the absurd, and an object of attack</a:t>
            </a: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85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ffffff"/>
                </a:solidFill>
                <a:latin typeface="Times New Roman"/>
              </a:rPr>
              <a:t>Generally LIBERAL (political change is a myth; accept acceptance)</a:t>
            </a: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467"/>
                </a:solidFill>
                <a:latin typeface="Arial"/>
              </a:rPr>
              <a:t>Wheeee!  You</a:t>
            </a:r>
            <a:r>
              <a:rPr b="0" lang="ja-JP" sz="4400" spc="-1" strike="noStrike">
                <a:solidFill>
                  <a:srgbClr val="ffd467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ffd467"/>
                </a:solidFill>
                <a:latin typeface="Arial"/>
              </a:rPr>
              <a:t>re done!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685800" y="3200040"/>
            <a:ext cx="7772400" cy="12193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467"/>
                </a:solidFill>
                <a:latin typeface="Arial"/>
              </a:rPr>
              <a:t>Principles of Structuralism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Meaning occurs through difference and SIGNS</a:t>
            </a:r>
            <a:r>
              <a:rPr b="1" i="1" lang="ja-JP" sz="3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 relationship to each other.  Ex: woman vs. lady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Much of our imaginative world is structured in binary sets (opposites) which assign structure and meaning to signs.  Ex: cruel vs. humane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467"/>
                </a:solidFill>
                <a:latin typeface="Arial"/>
              </a:rPr>
              <a:t>Principles of Structuralism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Forms the basis of SEMIOTICS, the study of signs.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Sign = union of SIGNIFIER and SIGNIFIED.  Ex: c-a-t, fuzzy critter that goes </a:t>
            </a:r>
            <a:r>
              <a:rPr b="1" i="1" lang="ja-JP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meow</a:t>
            </a:r>
            <a:r>
              <a:rPr b="1" i="1" lang="ja-JP" sz="36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CODES provide signs with context - cultural context, literary context, etc.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467"/>
                </a:solidFill>
                <a:latin typeface="Arial"/>
              </a:rPr>
              <a:t>Principles of Structuralism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Emphasizes that humans create meaning.  Structuralism, then, allows us to examine our relationships with literature, art, society, etc.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Our sense of self -- our consciousness -- exists in relation to outside collective influences.  We are NOT self-contained!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467"/>
                </a:solidFill>
                <a:latin typeface="Arial"/>
              </a:rPr>
              <a:t>Principles of Structuralism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Reality is conventional; our perceptions of the world around us are bound up in conventions, codes, signs, etc.  The </a:t>
            </a:r>
            <a:r>
              <a:rPr b="1" i="1" lang="ja-JP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social construction of reality</a:t>
            </a:r>
            <a:r>
              <a:rPr b="1" i="1" lang="ja-JP" sz="36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Structuralism</a:t>
            </a:r>
            <a:r>
              <a:rPr b="1" i="1" lang="ja-JP" sz="3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s ultimate argument is this…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3200040"/>
            <a:ext cx="7772400" cy="12193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txBody>
          <a:bodyPr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There is a connection between our concept of reality, the self, society, consciousness, and unconsciousness.  They are all connected to each other and are bound by the same laws, signs, and conventions.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467"/>
                </a:solidFill>
                <a:latin typeface="Arial"/>
              </a:rPr>
              <a:t>When reading a </a:t>
            </a:r>
            <a:r>
              <a:rPr b="0" lang="ja-JP" sz="4400" spc="-1" strike="noStrike">
                <a:solidFill>
                  <a:srgbClr val="ffd467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d467"/>
                </a:solidFill>
                <a:latin typeface="Arial"/>
              </a:rPr>
              <a:t>text</a:t>
            </a:r>
            <a:r>
              <a:rPr b="0" lang="ja-JP" sz="4400" spc="-1" strike="noStrike">
                <a:solidFill>
                  <a:srgbClr val="ffd467"/>
                </a:solidFill>
                <a:latin typeface="Arial"/>
              </a:rPr>
              <a:t>”</a:t>
            </a:r>
            <a:r>
              <a:rPr b="0" lang="en-US" sz="4400" spc="-1" strike="noStrike">
                <a:solidFill>
                  <a:srgbClr val="ffd467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Look for…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Parallels in plot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Echoes in structure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Reflections/repetitions in character/motive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Contrasts in situation/circumstance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Patterns in language/imagery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03:29:05Z</dcterms:created>
  <dc:creator>Kathryn Henderson</dc:creator>
  <dc:description/>
  <dc:language>en-US</dc:language>
  <cp:lastModifiedBy>Kathryn Henderson</cp:lastModifiedBy>
  <dcterms:modified xsi:type="dcterms:W3CDTF">2013-03-12T02:32:26Z</dcterms:modified>
  <cp:revision>5</cp:revision>
  <dc:subject/>
  <dc:title>Structuralism &amp; Semiotics</dc:title>
</cp:coreProperties>
</file>